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2C00A-C53F-4559-A9C0-5C464716C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16ED-3B5D-4662-9721-4A252BB28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EFF0A-5CA9-46C8-B6AD-E96A64F99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7850-3974-43F9-A192-84AA67435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B672-214E-425B-A72E-C189D346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533E0-EA24-49B5-9390-3698EAF2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37F8A-19B0-40C5-9E97-4735F1EB6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A2498-7328-4EBD-84BE-0B711C0D3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657D5-0B8A-4E9F-953B-0AE67742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6239-446B-4917-BB6D-0263B543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334C-AD46-4389-8075-00A49C8F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F4A0-C141-4A04-A311-7D86CA505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94F2-52DE-4214-9F4F-1BC28953A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ickham Script Pro Regular"/>
              </a:rPr>
              <a:t>New Historical Criticism</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Nueva Std Cond"/>
              </a:rPr>
              <a:t>By:</a:t>
            </a:r>
            <a:endParaRPr b="0" lang="en-US" sz="3800" spc="-1" strike="noStrike">
              <a:solidFill>
                <a:srgbClr val="000000"/>
              </a:solidFill>
              <a:latin typeface="Arial"/>
            </a:endParaRPr>
          </a:p>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Nueva Std Cond"/>
              </a:rPr>
              <a:t>Maddie Macri, Chelsye Bridegam, and Isaac Stroebel</a:t>
            </a:r>
            <a:endParaRPr b="0" lang="en-US" sz="38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a:t>
            </a:r>
            <a:endParaRPr b="0" lang="en-US" sz="9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2.</a:t>
            </a: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From their infancy, they have been intended for each other…While in their cradles we planned the union: and now, at the moment when the wishes of both sisters would be accomplished, in their marriage, to be prevented by a young woman of inferior birth, of no importance in the world, and wholly unallied to the family!” (pg 238)</a:t>
            </a:r>
            <a:endParaRPr b="0" lang="en-US" sz="40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Analysis</a:t>
            </a:r>
            <a:endParaRPr b="0" lang="en-US" sz="9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2.</a:t>
            </a:r>
            <a:r>
              <a:rPr b="0" lang="en-US" sz="3200" spc="-1" strike="noStrike">
                <a:solidFill>
                  <a:srgbClr val="000000"/>
                </a:solidFill>
                <a:latin typeface="Nueva Std Cond"/>
              </a:rPr>
              <a:t>	</a:t>
            </a:r>
            <a:r>
              <a:rPr b="0" lang="en-US" sz="3200" spc="-1" strike="noStrike">
                <a:solidFill>
                  <a:srgbClr val="000000"/>
                </a:solidFill>
                <a:latin typeface="Nueva Std Cond"/>
              </a:rPr>
              <a:t>	</a:t>
            </a:r>
            <a:r>
              <a:rPr b="0" lang="en-US" sz="3200" spc="-1" strike="noStrike">
                <a:solidFill>
                  <a:srgbClr val="000000"/>
                </a:solidFill>
                <a:latin typeface="Nueva Std Cond"/>
              </a:rPr>
              <a:t>Lady Catherine de Bourgh basically tells Elizabeth that she is a worthless piece of scum that is in no social position to even look at Mr. Darcy, let alone marry him!  Lady Catherine also tells Elizabeth that Mr. Darcy was going to marry his cousin, Miss de Bourgh, because it was the wish of herself and Mr. Darcy’s mother, Lady Catherine’s sister.  By telling Elizabeth these things, Lady Catherine is giving us a prime example of the separation of the classes and what is considered right and wrong.</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49356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a:t>
            </a:r>
            <a:r>
              <a:rPr b="0" lang="en-US" sz="3400" spc="-1" strike="noStrike">
                <a:solidFill>
                  <a:srgbClr val="000000"/>
                </a:solidFill>
                <a:latin typeface="Nueva Std Cond"/>
              </a:rPr>
              <a:t>But the case is this.  We are not rich enough or grand enough for them.”     (pg 82)</a:t>
            </a:r>
            <a:endParaRPr b="0" lang="en-US" sz="3400" spc="-1" strike="noStrike">
              <a:solidFill>
                <a:srgbClr val="000000"/>
              </a:solidFill>
              <a:latin typeface="Arial"/>
            </a:endParaRPr>
          </a:p>
          <a:p>
            <a:pPr marL="4935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	</a:t>
            </a:r>
            <a:r>
              <a:rPr b="0" lang="en-US" sz="3400" spc="-1" strike="noStrike">
                <a:solidFill>
                  <a:srgbClr val="000000"/>
                </a:solidFill>
                <a:latin typeface="Nueva Std Cond"/>
              </a:rPr>
              <a:t>	</a:t>
            </a:r>
            <a:r>
              <a:rPr b="0" lang="en-US" sz="3400" spc="-1" strike="noStrike">
                <a:solidFill>
                  <a:srgbClr val="000000"/>
                </a:solidFill>
                <a:latin typeface="Nueva Std Cond"/>
              </a:rPr>
              <a:t>Elizabeth tells Jane this because Jane is bummed out about Mr. Bingley going away to find Miss Darcy and Elizabeth says that Miss Bingley is just jealous that her brother likes Jane when she can’t get Mr. Darcy’s attention.  Again, Elizabeth’s words to Jane suggest that they definitely do feel the enormous gap between the social classes, but are trying to overlook them for the sake of love.</a:t>
            </a:r>
            <a:endParaRPr b="0" lang="en-US" sz="34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493560">
              <a:lnSpc>
                <a:spcPct val="90000"/>
              </a:lnSpc>
              <a:spcBef>
                <a:spcPts val="799"/>
              </a:spcBef>
              <a:buClr>
                <a:srgbClr val="000000"/>
              </a:buClr>
              <a:buFont typeface="Nueva Std C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a:t>
            </a:r>
            <a:r>
              <a:rPr b="0" lang="en-US" sz="3200" spc="-1" strike="noStrike">
                <a:solidFill>
                  <a:srgbClr val="000000"/>
                </a:solidFill>
                <a:latin typeface="Nueva Std Cond"/>
              </a:rPr>
              <a:t>It is a truth universally acknowledged, that a single man in possession of a good fortune, must be in want of a wife.’ (pg 1)</a:t>
            </a:r>
            <a:endParaRPr b="0" lang="en-US" sz="3200" spc="-1" strike="noStrike">
              <a:solidFill>
                <a:srgbClr val="000000"/>
              </a:solidFill>
              <a:latin typeface="Arial"/>
            </a:endParaRPr>
          </a:p>
          <a:p>
            <a:pPr marL="493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ueva Std Cond"/>
              </a:rPr>
              <a:t>	</a:t>
            </a:r>
            <a:r>
              <a:rPr b="0" lang="en-US" sz="3200" spc="-1" strike="noStrike">
                <a:solidFill>
                  <a:srgbClr val="000000"/>
                </a:solidFill>
                <a:latin typeface="Nueva Std Cond"/>
              </a:rPr>
              <a:t>	</a:t>
            </a:r>
            <a:r>
              <a:rPr b="0" lang="en-US" sz="3200" spc="-1" strike="noStrike">
                <a:solidFill>
                  <a:srgbClr val="000000"/>
                </a:solidFill>
                <a:latin typeface="Nueva Std Cond"/>
              </a:rPr>
              <a:t>The first sentence of </a:t>
            </a:r>
            <a:r>
              <a:rPr b="0" i="1" lang="en-US" sz="3200" spc="-1" strike="noStrike">
                <a:solidFill>
                  <a:srgbClr val="000000"/>
                </a:solidFill>
                <a:latin typeface="Nueva Std Cond"/>
              </a:rPr>
              <a:t>Pride &amp; Prejudice</a:t>
            </a:r>
            <a:r>
              <a:rPr b="0" lang="en-US" sz="3200" spc="-1" strike="noStrike">
                <a:solidFill>
                  <a:srgbClr val="000000"/>
                </a:solidFill>
                <a:latin typeface="Nueva Std Cond"/>
              </a:rPr>
              <a:t> immediately tells us how people are shaped by the culture and time that they live in.  Nowadays, a single rich man isn’t necessarily looking for a wife.  He could be, though, or it could be lower on his list of priorities.  By saying that is it a “truth universally acknowledged”, we know that everybody expected this single rich man to be looking for a wif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a:t>
            </a:r>
            <a:endParaRPr b="0" lang="en-US" sz="9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001"/>
              </a:spcBef>
              <a:buClr>
                <a:srgbClr val="000000"/>
              </a:buClr>
              <a:buFont typeface="Nueva Std C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a:t>
            </a:r>
            <a:r>
              <a:rPr b="0" lang="en-US" sz="4000" spc="-1" strike="noStrike">
                <a:solidFill>
                  <a:srgbClr val="000000"/>
                </a:solidFill>
                <a:latin typeface="Nueva Std Cond"/>
              </a:rPr>
              <a:t>The business of her life was to get her daughters married; its solace was visiting and news.’ (pg 3)</a:t>
            </a:r>
            <a:endParaRPr b="0" lang="en-US" sz="4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endParaRPr b="0" lang="en-US" sz="40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Analysis</a:t>
            </a:r>
            <a:endParaRPr b="0" lang="en-US" sz="9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5000"/>
          </a:bodyPr>
          <a:p>
            <a:pPr marL="25704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Nueva Std Cond"/>
              </a:rPr>
              <a:t>5.</a:t>
            </a:r>
            <a:r>
              <a:rPr b="0" lang="en-US" sz="3100" spc="-1" strike="noStrike">
                <a:solidFill>
                  <a:srgbClr val="000000"/>
                </a:solidFill>
                <a:latin typeface="Nueva Std Cond"/>
              </a:rPr>
              <a:t>	</a:t>
            </a:r>
            <a:r>
              <a:rPr b="0" lang="en-US" sz="3100" spc="-1" strike="noStrike">
                <a:solidFill>
                  <a:srgbClr val="000000"/>
                </a:solidFill>
                <a:latin typeface="Nueva Std Cond"/>
              </a:rPr>
              <a:t>	</a:t>
            </a:r>
            <a:r>
              <a:rPr b="0" lang="en-US" sz="3100" spc="-1" strike="noStrike">
                <a:solidFill>
                  <a:srgbClr val="000000"/>
                </a:solidFill>
                <a:latin typeface="Nueva Std Cond"/>
              </a:rPr>
              <a:t>This remark the author adds as the purpose of Mrs. Bennet’s life explains how she is a product of the culture she lives in.  It also explains how she is a product because of her ‘solace’ being ‘visiting and news.’  When Mrs. Bennet was growing up, her mother’s focus was getting her daughters married, so Mrs. Bennet learned this from her mother because the culture accepted this.  At that time, it was the purpose of all mothers to marry their daughters off to higher social classes so they would have better lives.  By saying that Mrs. Bennet is comforted by visiting people and the latest gossip implies that she likes to know what’s going on to help boost her daughters’ chances of getting married.</a:t>
            </a:r>
            <a:endParaRPr b="0" lang="en-US" sz="31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Definition</a:t>
            </a:r>
            <a:endParaRPr b="0" lang="en-US" sz="9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ueva Std Cond"/>
              </a:rPr>
              <a:t>	</a:t>
            </a:r>
            <a:r>
              <a:rPr b="0" lang="en-US" sz="4400" spc="-1" strike="noStrike">
                <a:solidFill>
                  <a:srgbClr val="000000"/>
                </a:solidFill>
                <a:latin typeface="Nueva Std Cond"/>
              </a:rPr>
              <a:t>	</a:t>
            </a:r>
            <a:r>
              <a:rPr b="0" lang="en-US" sz="4400" spc="-1" strike="noStrike">
                <a:solidFill>
                  <a:srgbClr val="000000"/>
                </a:solidFill>
                <a:latin typeface="Nueva Std Cond"/>
              </a:rPr>
              <a:t>A method of literary criticism that emphasizes the historicity of a text by relating it to the configurations of power, society, or ideology in a given time. </a:t>
            </a:r>
            <a:endParaRPr b="0" lang="en-US" sz="4400" spc="-1" strike="noStrike">
              <a:solidFill>
                <a:srgbClr val="000000"/>
              </a:solidFill>
              <a:latin typeface="Arial"/>
            </a:endParaRPr>
          </a:p>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26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Major Ideas</a:t>
            </a:r>
            <a:endParaRPr b="0" lang="en-US" sz="9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200" spc="-1" strike="noStrike">
                <a:solidFill>
                  <a:srgbClr val="000000"/>
                </a:solidFill>
                <a:latin typeface="Nueva Std Cond"/>
              </a:rPr>
              <a:t>The role of women, especially upper crust women in England, at the time is to look beautiful, speak only of pleasantries, and marry quickly, preferably to someone with wealth at his disposal.</a:t>
            </a:r>
            <a:endParaRPr b="0" lang="en-US" sz="42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Characteristics</a:t>
            </a:r>
            <a:endParaRPr b="0" lang="en-US" sz="9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New Historical Criticism compares ways and habits of old times to today’s modern culture and society.</a:t>
            </a:r>
            <a:endParaRPr b="0" lang="en-US" sz="40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Introducing…</a:t>
            </a:r>
            <a:endParaRPr b="0" lang="en-US" sz="9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ueva Std Cond"/>
              </a:rPr>
              <a:t>	</a:t>
            </a:r>
            <a:r>
              <a:rPr b="0" lang="en-US" sz="4000" spc="-1" strike="noStrike">
                <a:solidFill>
                  <a:srgbClr val="000000"/>
                </a:solidFill>
                <a:latin typeface="Nueva Std Cond"/>
              </a:rPr>
              <a:t>	</a:t>
            </a:r>
            <a:r>
              <a:rPr b="0" lang="en-US" sz="4000" spc="-1" strike="noStrike">
                <a:solidFill>
                  <a:srgbClr val="000000"/>
                </a:solidFill>
                <a:latin typeface="Nueva Std Cond"/>
              </a:rPr>
              <a:t>New Historical criticism developed during the 1980’s, largely in reaction to the formalist New Critics and the critics who challenged New Criticism in the 1970’s.</a:t>
            </a:r>
            <a:endParaRPr b="0" lang="en-US" sz="40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475200" indent="-475200">
              <a:lnSpc>
                <a:spcPct val="100000"/>
              </a:lnSpc>
              <a:spcBef>
                <a:spcPts val="901"/>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How does the text promote ideologies that support and/or undermine the prevailing power structures of the time and place in which it was written? (Think of the class system, gender roles, etc.)</a:t>
            </a:r>
            <a:endParaRPr b="0" lang="en-US" sz="3600" spc="-1" strike="noStrike">
              <a:solidFill>
                <a:srgbClr val="000000"/>
              </a:solidFill>
              <a:latin typeface="Arial"/>
            </a:endParaRPr>
          </a:p>
          <a:p>
            <a:pPr marL="475200" indent="-475200">
              <a:lnSpc>
                <a:spcPct val="100000"/>
              </a:lnSpc>
              <a:spcBef>
                <a:spcPts val="901"/>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What does Pride &amp; Prejudice suggest about the experience of groups of people who have been ignored, underrepresented or misrepresented by traditional history? (laborers, women, the poor, etc.)</a:t>
            </a:r>
            <a:endParaRPr b="0" lang="en-US" sz="36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469080" indent="-46908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What does Pride &amp; Prejudice add to our tentative understanding of human experience in the particular time and place, and to the ways in which individual identity shapes and is shaped by cultural institutions?</a:t>
            </a:r>
            <a:endParaRPr b="0" lang="en-US" sz="3400" spc="-1" strike="noStrike">
              <a:solidFill>
                <a:srgbClr val="000000"/>
              </a:solidFill>
              <a:latin typeface="Arial"/>
            </a:endParaRPr>
          </a:p>
          <a:p>
            <a:pPr marL="469080" indent="-469080">
              <a:lnSpc>
                <a:spcPct val="90000"/>
              </a:lnSpc>
              <a:spcBef>
                <a:spcPts val="850"/>
              </a:spcBef>
              <a:buClr>
                <a:srgbClr val="000000"/>
              </a:buClr>
              <a:buFont typeface="Nueva Std C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How has Pride &amp; Prejudice’s reception by critics and the reading public, including its reception when it was first published, changing responses to the work over time, and its possible future relationship with its audience-been shaped by and shaped the culture in which the reception occurred?</a:t>
            </a:r>
            <a:endParaRPr b="0" lang="en-US" sz="34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estions</a:t>
            </a:r>
            <a:endParaRPr b="0" lang="en-US" sz="9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ueva Std Cond"/>
              </a:rPr>
              <a:t>5.</a:t>
            </a:r>
            <a:r>
              <a:rPr b="0" lang="en-US" sz="3600" spc="-1" strike="noStrike">
                <a:solidFill>
                  <a:srgbClr val="000000"/>
                </a:solidFill>
                <a:latin typeface="Nueva Std Cond"/>
              </a:rPr>
              <a:t>	</a:t>
            </a:r>
            <a:r>
              <a:rPr b="0" lang="en-US" sz="3600" spc="-1" strike="noStrike">
                <a:solidFill>
                  <a:srgbClr val="000000"/>
                </a:solidFill>
                <a:latin typeface="Nueva Std Cond"/>
              </a:rPr>
              <a:t>	</a:t>
            </a:r>
            <a:r>
              <a:rPr b="0" lang="en-US" sz="3600" spc="-1" strike="noStrike">
                <a:solidFill>
                  <a:srgbClr val="000000"/>
                </a:solidFill>
                <a:latin typeface="Nueva Std Cond"/>
              </a:rPr>
              <a:t>Using rhetorical analysis-or analysis of a text’s purpose and the stylistic means it uses to achieve that purpose, what does Pride &amp; Prejudice add to our understandings of the ways in which literary and nonliterary discourses (politics, science, economics, educational theories) have influenced, overlapped with, and competed with one another at specific historical moments?</a:t>
            </a:r>
            <a:endParaRPr b="0" lang="en-US" sz="36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Bickham Script Pro Regular"/>
              </a:rPr>
              <a:t>Quotes &amp; Analysis</a:t>
            </a:r>
            <a:endParaRPr b="0" lang="en-US" sz="9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4000"/>
          </a:bodyPr>
          <a:p>
            <a:pPr marL="450720" indent="-450720">
              <a:lnSpc>
                <a:spcPct val="90000"/>
              </a:lnSpc>
              <a:spcBef>
                <a:spcPts val="850"/>
              </a:spcBef>
              <a:buClr>
                <a:srgbClr val="000000"/>
              </a:buClr>
              <a:buFont typeface="Nueva Std C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a:t>
            </a:r>
            <a:r>
              <a:rPr b="0" lang="en-US" sz="3400" spc="-1" strike="noStrike">
                <a:solidFill>
                  <a:srgbClr val="000000"/>
                </a:solidFill>
                <a:latin typeface="Nueva Std Cond"/>
              </a:rPr>
              <a:t>Ah! Jane, I take your place now, and you must go lower, because I am a married woman.”     (pg 212)</a:t>
            </a:r>
            <a:endParaRPr b="0" lang="en-US" sz="3400" spc="-1" strike="noStrike">
              <a:solidFill>
                <a:srgbClr val="000000"/>
              </a:solidFill>
              <a:latin typeface="Arial"/>
            </a:endParaRPr>
          </a:p>
          <a:p>
            <a:pPr marL="45072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Nueva Std Cond"/>
              </a:rPr>
              <a:t>	</a:t>
            </a:r>
            <a:r>
              <a:rPr b="0" lang="en-US" sz="3400" spc="-1" strike="noStrike">
                <a:solidFill>
                  <a:srgbClr val="000000"/>
                </a:solidFill>
                <a:latin typeface="Nueva Std Cond"/>
              </a:rPr>
              <a:t>	</a:t>
            </a:r>
            <a:r>
              <a:rPr b="0" lang="en-US" sz="3400" spc="-1" strike="noStrike">
                <a:solidFill>
                  <a:srgbClr val="000000"/>
                </a:solidFill>
                <a:latin typeface="Nueva Std Cond"/>
              </a:rPr>
              <a:t>Because Jane was the oldest Bennet daughter, she got to sit at her mother’s right hand at the table.  Now that Lydia, the youngest Bennet daughter, is married, she booted Jane out of her seat and then Lydia sat at Mrs. Bennet’s right hand.  This promotes ideologies that undermine prevailing power structures because Jane was once at a favored spot, but now that one of her younger sisters is married, that sister now gets that spot.</a:t>
            </a:r>
            <a:endParaRPr b="0" lang="en-US" sz="34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5:58:39Z</dcterms:created>
  <dc:creator>MASD</dc:creator>
  <dc:description/>
  <dc:language>en-US</dc:language>
  <cp:lastModifiedBy>MASD</cp:lastModifiedBy>
  <dcterms:modified xsi:type="dcterms:W3CDTF">2012-11-29T16:13:01Z</dcterms:modified>
  <cp:revision>8</cp:revision>
  <dc:subject/>
  <dc:title>New Historical Criticism</dc:title>
</cp:coreProperties>
</file>